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D6B-13F8-435E-9F0D-47A2E7AD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872-79C6-4356-9DCD-8C8223CB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715-7764-420F-8CC4-6BDAC96A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B7A-7E1B-4A2F-90AF-867CE9F9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E43-C799-425E-843F-347CAD5E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776-5AA9-4E88-A517-2C9B5429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7F2-6CE9-4F40-846E-0992B1AA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07A-45AC-4960-9DE4-F517ADB9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3ED-2F4F-441D-BC87-CD3EF054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A11-5AA7-41DD-84A9-D6F06CE2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7AF-83C7-4BDC-BBBA-CF59DAA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32B-4A5D-4FDB-B7EC-6840099A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CFB5-CD89-419B-9D9F-1E3D7FF4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MBERNAULD                           CUMBERNAULD                              DUMBARTON                                          DUNDEE                                          DUNDEE                                            DY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FIFE                                        EAST  FIFE                                   EAST  FIFE  25TH                            EAST  KILBRIDE                                 EAST  LOTHIAN                              EDINBURG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676800" y="2811600"/>
            <a:ext cx="75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LGIN                                            ELGIN                                                   FALKIRK                                            FALKIRK                                             FALKIRK                                          FI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NTRY                                FRASERBURGH                                       GALLEON                                               GALLEON                                        GARIOCH                                     GLAS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28880" y="115920"/>
            <a:ext cx="13158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13240" y="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68880" y="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81960" y="115920"/>
            <a:ext cx="969840" cy="12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21600" y="11592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88880" y="16286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0028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097600" y="191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81960" y="191628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048520" y="184464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928880" y="371628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584520" y="357336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024520" y="335772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08880" y="335772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12160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56052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1928880" y="530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513240" y="508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30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21600" y="5157720"/>
            <a:ext cx="104292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2000160" y="1628640"/>
            <a:ext cx="1243080" cy="133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76880" y="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5240160" y="5084640"/>
            <a:ext cx="981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5:41:59Z</dcterms:created>
  <dc:creator>John Young</dc:creator>
  <dc:description/>
  <dc:language>en-US</dc:language>
  <cp:lastModifiedBy>JY</cp:lastModifiedBy>
  <dcterms:modified xsi:type="dcterms:W3CDTF">2008-01-05T12:10:40Z</dcterms:modified>
  <cp:revision>17</cp:revision>
  <dc:subject/>
  <dc:title>No Slide Title</dc:title>
</cp:coreProperties>
</file>